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4398B-9EF0-4494-AED1-98584847AC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9D96CD-81FF-467B-9BDB-E41D1BA095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28816D-E6FF-4477-A9FA-59551CAEE8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8674E1-3AD5-4379-9981-7A3634F3BB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450025-3ED8-4EAB-B1AD-09C8F4EDC8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7181DC-7AFF-4569-B0F3-028A2F7366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3A5DD0-C8D2-44E7-B655-115819BAD9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120114-99E8-40C2-9CCC-10D0D83AE5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593D59-4EC1-4447-AFED-5893251EE6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5A2970-9F41-4BE1-8804-15A773DF80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F2E503-D00E-4327-A117-B58E293FF0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EBDD2A-D732-4DA6-93F3-34072F737D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500806-AE74-4624-A294-03C87CE88C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B3869-5BA7-488B-A368-6ACD6EF899DB}" type="datetime3">
              <a:rPr b="0" lang="en-US" sz="1400" spc="-1" strike="noStrike">
                <a:solidFill>
                  <a:srgbClr val="ffffff"/>
                </a:solidFill>
                <a:latin typeface="Times New Roman"/>
              </a:rPr>
              <a:t>July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A29AD-BDEC-44CC-B1CE-F5BE0B9CA5B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A2D02F33-3B0E-491E-A014-D81C31FEDD4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835D4F7B-B48C-4CA1-AC17-F75416B5352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76AEEDE0-8D90-4D3D-A65A-CC693001C0E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9E07428F-5B96-44D1-B96C-669C0FD2676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6DA795D8-1D4A-4A47-8195-7E84F1A1D35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181B2B0D-A24D-40A9-8D78-5F5887FD0AC7}"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886C2881-5E06-4380-BCFB-0F3930E9D48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2DA93744-F075-4BE6-93A5-33AC67B01D8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A722816B-BCDE-4A33-AB5B-8059CB6D473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C3D60C11-36BA-406C-B5CF-9834DE750BE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3DD5593E-F549-4E5B-8446-AD2B7CB506D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3C536BE2-69AB-43F5-9C06-303F9B3464A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AE33F882-F006-4FD7-86E3-D8566EBFC90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FC4E481A-39F4-4B4A-B652-D6F1930FFAE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